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65A-ED70-47AA-8F06-08A858FC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CC7-E8B1-4CFB-834E-371E601F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91F-A1A2-463F-9EAF-AC3152DE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916-4763-4356-A091-62BBD4C4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C904-610B-49D1-9430-2B0D1323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94F7-0817-43BA-AC63-3BF2666C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8E67-AC8D-4017-9D29-3F962CFF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F600-1BD4-4A14-83B6-4A9B1A7C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018F-3452-42CB-8226-677C3A31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7878-3BBF-4D6D-ACFB-9B932454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A493-B69F-4E44-92DD-B955C131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2BC-E60B-4E8D-8D04-C0E5E51C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F417-9CC2-4FB0-B62E-23019684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BEF6-8EC5-4CF9-8E66-4E103863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402F-BD12-4B77-A656-59D753F3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3B18-F45F-4745-9432-9DFFC8FA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4863-5F61-4585-A664-8626F86D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31F-3DDA-4858-85CC-46F7975B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A31C-872F-451F-BFA1-8A3872CC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E24-53D5-4129-ABDA-ACEBB5A7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184-9A18-4CB0-8EE3-186D9F0F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34C-DA71-4438-8EC5-F7D22086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235-FD2E-4FE1-8135-57C50CD2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4C1-729A-4814-BD41-BB05FC87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AC72-097E-4592-8547-2647C39B62C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55A0-BEF5-49A7-B634-6BB3365B3A1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045520" y="500040"/>
            <a:ext cx="47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Интегрисане академске студије стоматологи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324000" y="198900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ДУЛ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Основе вештине комуник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835280" y="3357720"/>
            <a:ext cx="55450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1. наставна јединица (прва недеља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вод у вештину комуник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879520" y="5997600"/>
            <a:ext cx="30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роф. др Владимир Јањи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807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д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је јези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нглески, дански, арапски, али и неки технички или сленг..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рук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је оно што желите да кажете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рект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и индирек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р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директну поруку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ете читати или чути «између редова» и веома често су оне важније од директних порук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нал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је начин како шаљете поруку (језиком, говором тела, додиром...)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808200"/>
            <a:ext cx="856908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 муникацију  отежавају лични филтери кој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 блиско повезани са нашом личношћу и прошлошћу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гу се заснивати на нашем искуству, нпр. као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ичности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личних ситуација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треба да се афирмишемо или страхова од високих или моћних места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шег васпитања и образовања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Увек поставите себе на место вашег саговорника!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63480" y="1672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рбал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вор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иса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мер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намер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) сигнална - симболичк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ред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посредн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ђ) интраперсонална - интерперсоналн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68360" y="549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ЕЂУЉУДС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орм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РБАЛ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                  НЕВЕРБАЛН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ри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азични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лик међуљудске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д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рбал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с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гласне веру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ц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ос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Straight Connector 7"/>
          <p:cNvSpPr/>
          <p:nvPr/>
        </p:nvSpPr>
        <p:spPr>
          <a:xfrm>
            <a:off x="4716360" y="1628640"/>
            <a:ext cx="1008000" cy="576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traight Connector 9"/>
          <p:cNvSpPr/>
          <p:nvPr/>
        </p:nvSpPr>
        <p:spPr>
          <a:xfrm flipH="1">
            <a:off x="3419280" y="1628640"/>
            <a:ext cx="1006200" cy="639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8920" y="1714320"/>
            <a:ext cx="8929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сновни принципи комуникације на релацији лекар-пацијент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јам емпатије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49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Зашто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тенцирамо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вештину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 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медицини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Успех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нашег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рада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зависи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600" spc="-1" strike="noStrike">
                <a:solidFill>
                  <a:srgbClr val="ffffff"/>
                </a:solidFill>
                <a:latin typeface="Book Antiqua"/>
              </a:rPr>
              <a:t>1.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валитета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браћања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шим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ацијентима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арадницим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 и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Book Antiqua"/>
              </a:rPr>
              <a:t>2.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валитет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лушањ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пособности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епознамо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 прихватим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н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што он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жел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аопшт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м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Успешно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споразумевање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1.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тич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адовољств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ацијенат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vi-VN" sz="2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длучујућу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логу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безбеђивању сарад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ечењ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145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рви утисак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Околина  и услови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мбуланта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болесничка соба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ргентни центар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рисуство других особа,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26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Фактори који утичу на комуникацију од стране пацијент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оматска/психичка боле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ах, бес, стрепња,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образовање, узра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Фактори који утичу на комуникацију од стране лекар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28760" y="1428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Емпатиј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дословно уосећавање, уживљавањ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 П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роцес непосредног уживљавања у емоционална стања, мишљење и понашање других људи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импатиј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привлачност односно наклоности према некоме или нечему, јавља се спонтано и често је необјашњиво, ирационално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нтипатиј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је осећање које може да варира од благе ненаклоности и одбојности до изразите нетрпељивости и одвратности према некој особи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сертивност подразумева директно, јасно и искрено исказивање својих осећања, потреба и ставова особи која својим понашањем крши туђа прав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 је способност супротстављања на неагресиван и неманипулативан начин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900000" y="2133720"/>
            <a:ext cx="77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уникација је елементарна људска активност која је усмерена како према спољашњем свету, тако и према унутрашњем, властитом бић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А АСЕРТИВНА РЕЧЕНИЦА садржи став, чињенцу или опсервацију. То је кратка реченица која исказује потребу или право онога који је изговар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ри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Не чујем те добро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Сметају ми сталне упадице када говорим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3. Твој ауто је блокирао мој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333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ЕМПАТИЧКА АСЕРТИВНОСТ садржи емпатију, препознавање стања и осећања друге особе и асертивност, исказивање сопствених потреба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римери: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1. Говориш јако тихо. Имам проблем да те чујем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2. Видим да те ово што говорим узбуђује, а ја имам потребу да довршим ово што сам почео да говорим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3. Извини што прекидам разговор, твој ауто је блокирао мој, а ја морам одмах да кренем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04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lnSpc>
                <a:spcPct val="10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АСЕРТИВНОСТ КОЈА ТРАЖИ ОДГОВОР је директна порука која садржи нашу потребу и тражи од саговорника да прецизира своје мишљење, став или осећање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римери: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. Не чујем те, а јако ми је стало да чујем шта говориш. Можеш ли да говориш гласније?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. Видим да те ово што говорим узбуђује, а потребно ми је још пет минута да довршим. Можеш ли да сачекаш?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. Видим да прекидам веома интересантан разговор, а твој ауто је блокирао мој. Треба одмах да кренем, можеш ли да пођеш са мном и да га помериш?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-27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СЕРТИВНОСТ НЕГАТИВНИХ ОСЕЋАЊА садржи: а) неутралан опис туђег понашања,             б) сопствена осећања у датој ситуацији и                  в) оно што би онај ко говори волео да друга особа уради или конкретни ефекат туђег понашања на особу која говори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Пример: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. Када ме ти прекинеш док говорим, иритиран сам и плашим се да ћу да изгубим нит, а врло ми је важно да јасно искажем оно што желим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. Када твојим аутом блокираш мој, огорчена сам и волела бих да ми кажеш да ли наш договор око паркирања важи и даље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Комуникација: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- преношење и разумевање значења попрука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- разме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кус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, k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ј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ућа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звој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ив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ћа;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- споразумевање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- учинити нешто општим или заједничким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eng. comunity = 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заједништво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lat. communis = 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заједничко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73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Човек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биће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Историја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људског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рода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историја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Корен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Адаптација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окружењ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услов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опстанка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Нема адаптациј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окружењ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са окружењем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904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тор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тир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ош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ран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ли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иво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 почетку се одвијала доминантно невербалн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Људс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напредил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о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200000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мбол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мишље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30000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исм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7000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42560" cy="1403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9280" y="1268280"/>
            <a:ext cx="85694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05160" indent="-478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ви тип дефиниција нагласак ставља н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једништво, дељењ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unis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једнички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unicar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лити, учинити заједни- чким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5160" indent="-478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руги тип дефиниција наглашавају намеру, утицај, и комуникацију схватају као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говарањ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односно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беђивањ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5160" indent="-478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д одређеног броја теоретичара комуникација се види као процес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ношења информ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5160" indent="-478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ске теорије комуникацију посматрају ка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ракциј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оја се састоји од интерактивних делова, а која је увек већа од збира својих делов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борав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еђуљудск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ка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м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нос информа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ћ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мо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о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исл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вере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жељ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мер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перати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спешни у медици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бар комуникатор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96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Најбоља ствар комуникације је да не можемо да то престанемо да радимо.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Увек комуницирамо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, чак и онда када не разговарамо или гледамо једни у друге.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Комуникација зависи од особа које комуницирају.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7:57:55Z</dcterms:created>
  <dc:creator>DELL</dc:creator>
  <dc:description/>
  <dc:language>en-US</dc:language>
  <cp:lastModifiedBy>Slavica</cp:lastModifiedBy>
  <dcterms:modified xsi:type="dcterms:W3CDTF">2018-01-21T13:02:10Z</dcterms:modified>
  <cp:revision>39</cp:revision>
  <dc:subject/>
  <dc:title>Slide 1</dc:title>
</cp:coreProperties>
</file>